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3B4-5FBF-4133-BBBD-E1E20454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665-7243-4DDD-9171-4E37F2EF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64A-93BA-4286-AFBD-96CF9AD0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C8F-CFFA-4A1E-A2A6-2E23106D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E35C-2E16-48EB-9FC6-C64A3BFE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BBFA-BEFE-4CDD-B9A9-FFDA092B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6784-95BF-4104-8D3B-43DCA986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F694-558C-4396-B66D-5612A72C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2712-C16E-4C61-A189-9EF8D8DB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1821-859F-45A4-84EF-49CF2342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E521-0378-4422-9B31-2F3EA992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E83-F6AC-430B-B87A-C106D105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4127-B7BF-46A3-97F3-8F022BB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6DA6-BB82-466D-8B51-3D8178E8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8DBA-5218-4A24-BA6A-C021A958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6CED-7D27-4123-8135-7BD07109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9967-FB8C-4E0E-B22D-F16F0748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5CC-2E60-4995-AFA5-3BB6DC02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378-CB28-444A-ACF4-B9534E5A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7D1-202D-4254-B5C7-91686942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9F4E-1511-41FE-9700-9296B708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01D-5FAF-4C3A-9875-A0EA2749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A25-673C-41C4-829B-6E40DAFF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DF2-B0E1-42D4-B628-B3F878A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89D2-67F6-44CE-812B-F0A853ED7A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326C-3657-4DAE-831D-249238FAB52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ducationwithkris.wikispaces.com/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reating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“Wikis”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www.educationwithkris.wikispaces.com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6" descr="computer_4"/>
          <p:cNvPicPr/>
          <p:nvPr/>
        </p:nvPicPr>
        <p:blipFill>
          <a:blip r:embed="rId2"/>
          <a:stretch/>
        </p:blipFill>
        <p:spPr>
          <a:xfrm>
            <a:off x="5181480" y="2133720"/>
            <a:ext cx="350532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Make A Wiki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www.wikispaces.c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Picture 5" descr="art_18"/>
          <p:cNvPicPr/>
          <p:nvPr/>
        </p:nvPicPr>
        <p:blipFill>
          <a:blip r:embed="rId2"/>
          <a:stretch/>
        </p:blipFill>
        <p:spPr>
          <a:xfrm>
            <a:off x="5146560" y="2286000"/>
            <a:ext cx="289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ing a Wik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“create your own classroom wiki today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ll out the information in “join now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 sure to pick a wiki name your like, it will be difficult to change la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are ready to add content!!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t’s that ea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6" descr="computer_67"/>
          <p:cNvPicPr/>
          <p:nvPr/>
        </p:nvPicPr>
        <p:blipFill>
          <a:blip r:embed="rId1"/>
          <a:stretch/>
        </p:blipFill>
        <p:spPr>
          <a:xfrm>
            <a:off x="2514600" y="2660760"/>
            <a:ext cx="4267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oose page to ed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 curser to area to add 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gin typing descrip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people_15"/>
          <p:cNvPicPr/>
          <p:nvPr/>
        </p:nvPicPr>
        <p:blipFill>
          <a:blip r:embed="rId1"/>
          <a:stretch/>
        </p:blipFill>
        <p:spPr>
          <a:xfrm>
            <a:off x="5181480" y="2198520"/>
            <a:ext cx="39625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ick on the picture ic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rowse your computer for the docum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pen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click to ad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6" descr="office_6"/>
          <p:cNvPicPr/>
          <p:nvPr/>
        </p:nvPicPr>
        <p:blipFill>
          <a:blip r:embed="rId1"/>
          <a:stretch/>
        </p:blipFill>
        <p:spPr>
          <a:xfrm>
            <a:off x="5105520" y="2498760"/>
            <a:ext cx="327636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ding Cont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view screen cast on “Home Page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6" descr="men_36"/>
          <p:cNvPicPr/>
          <p:nvPr/>
        </p:nvPicPr>
        <p:blipFill>
          <a:blip r:embed="rId1"/>
          <a:stretch/>
        </p:blipFill>
        <p:spPr>
          <a:xfrm>
            <a:off x="5307120" y="2057400"/>
            <a:ext cx="2985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Picture 6" descr="men_24"/>
          <p:cNvPicPr/>
          <p:nvPr/>
        </p:nvPicPr>
        <p:blipFill>
          <a:blip r:embed="rId1"/>
          <a:stretch/>
        </p:blipFill>
        <p:spPr>
          <a:xfrm>
            <a:off x="5630760" y="2057400"/>
            <a:ext cx="2498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 is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Website that allows the user (s) to post and share conten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6" descr="analyzing_computer_tv_head_md_wht"/>
          <p:cNvPicPr/>
          <p:nvPr/>
        </p:nvPicPr>
        <p:blipFill>
          <a:blip r:embed="rId1"/>
          <a:stretch/>
        </p:blipFill>
        <p:spPr>
          <a:xfrm>
            <a:off x="5670720" y="16002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dministrative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are information to help make us more produce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6" descr="computer_79"/>
          <p:cNvPicPr/>
          <p:nvPr/>
        </p:nvPicPr>
        <p:blipFill>
          <a:blip r:embed="rId1"/>
          <a:stretch/>
        </p:blipFill>
        <p:spPr>
          <a:xfrm>
            <a:off x="5257800" y="2362320"/>
            <a:ext cx="3033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 of “Wiki’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 safe place to post content on the interne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6" descr="computer_76"/>
          <p:cNvPicPr/>
          <p:nvPr/>
        </p:nvPicPr>
        <p:blipFill>
          <a:blip r:embed="rId1"/>
          <a:stretch/>
        </p:blipFill>
        <p:spPr>
          <a:xfrm>
            <a:off x="5383080" y="2514600"/>
            <a:ext cx="255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oup Assign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d Cas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 Presen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lip Cam” Vide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t up op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vi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can 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5" descr="computer_53"/>
          <p:cNvPicPr/>
          <p:nvPr/>
        </p:nvPicPr>
        <p:blipFill>
          <a:blip r:embed="rId1"/>
          <a:stretch/>
        </p:blipFill>
        <p:spPr>
          <a:xfrm>
            <a:off x="5181480" y="266076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acher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add cont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sy to set perimet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perform better when they have an audienc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children_63"/>
          <p:cNvPicPr/>
          <p:nvPr/>
        </p:nvPicPr>
        <p:blipFill>
          <a:blip r:embed="rId1"/>
          <a:stretch/>
        </p:blipFill>
        <p:spPr>
          <a:xfrm>
            <a:off x="5486400" y="2286000"/>
            <a:ext cx="2633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ype of Inform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tt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c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ndou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ide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6" descr="keys"/>
          <p:cNvPicPr/>
          <p:nvPr/>
        </p:nvPicPr>
        <p:blipFill>
          <a:blip r:embed="rId1"/>
          <a:stretch/>
        </p:blipFill>
        <p:spPr>
          <a:xfrm>
            <a:off x="5105520" y="2824200"/>
            <a:ext cx="3352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 “Wiki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ntralized 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Efficient than Ema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rge Docu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t’s 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Entertainment-02-june"/>
          <p:cNvPicPr/>
          <p:nvPr/>
        </p:nvPicPr>
        <p:blipFill>
          <a:blip r:embed="rId1"/>
          <a:stretch/>
        </p:blipFill>
        <p:spPr>
          <a:xfrm>
            <a:off x="5105520" y="2486160"/>
            <a:ext cx="2971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1:36:51Z</dcterms:created>
  <dc:creator>North Rockland Schools</dc:creator>
  <dc:description/>
  <dc:language>en-US</dc:language>
  <cp:lastModifiedBy>Kris Felicello</cp:lastModifiedBy>
  <dcterms:modified xsi:type="dcterms:W3CDTF">2010-08-01T17:18:28Z</dcterms:modified>
  <cp:revision>4</cp:revision>
  <dc:subject/>
  <dc:title>ALF 8/31/09 </dc:title>
</cp:coreProperties>
</file>